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19.png" ContentType="image/png"/>
  <Override PartName="/ppt/media/image18.png" ContentType="image/png"/>
  <Override PartName="/ppt/media/image14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D5A-E276-4FF5-9BED-5BFB05C42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67A-2A89-432E-A1E7-B633B73EC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FD3-26B3-43A3-B7A1-99CA50040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064A-3F60-4286-B10F-E11B56E49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26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2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28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29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and Its Propertie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water.jpg"/>
          <p:cNvPicPr/>
          <p:nvPr/>
        </p:nvPicPr>
        <p:blipFill>
          <a:blip r:embed="rId1"/>
          <a:stretch/>
        </p:blipFill>
        <p:spPr>
          <a:xfrm>
            <a:off x="838080" y="1600200"/>
            <a:ext cx="7588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ersatile Sol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ersatile Sol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ttraction between particles of the same substance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water is attracted to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Results in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tensio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a measure of the strength of water’s surfa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Produces a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film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on water that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allows insects to walk on the surfac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of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http://www.ccs.k12.in.us/chsBS/kons/kons/images/tension.gif"/>
          <p:cNvPicPr/>
          <p:nvPr/>
        </p:nvPicPr>
        <p:blipFill>
          <a:blip r:embed="rId1"/>
          <a:stretch/>
        </p:blipFill>
        <p:spPr>
          <a:xfrm>
            <a:off x="2743200" y="5410080"/>
            <a:ext cx="27432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web.mit.edu/nnf/education/wettability/insect.jpg"/>
          <p:cNvPicPr/>
          <p:nvPr/>
        </p:nvPicPr>
        <p:blipFill>
          <a:blip r:embed="rId1"/>
          <a:stretch/>
        </p:blipFill>
        <p:spPr>
          <a:xfrm>
            <a:off x="820800" y="1384200"/>
            <a:ext cx="3276360" cy="223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naturephoto-cz.com/photos/krasensky/surface-water-bug-0743.jpg"/>
          <p:cNvPicPr/>
          <p:nvPr/>
        </p:nvPicPr>
        <p:blipFill>
          <a:blip r:embed="rId2"/>
          <a:srcRect l="3999" t="0" r="0" b="10678"/>
          <a:stretch/>
        </p:blipFill>
        <p:spPr>
          <a:xfrm>
            <a:off x="4552920" y="2071800"/>
            <a:ext cx="4343400" cy="350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farm3.static.flickr.com/2018/2225172850_20b37ac1b5.jpg?v=0"/>
          <p:cNvPicPr/>
          <p:nvPr/>
        </p:nvPicPr>
        <p:blipFill>
          <a:blip r:embed="rId3"/>
          <a:srcRect l="16005" t="25150" r="0" b="13720"/>
          <a:stretch/>
        </p:blipFill>
        <p:spPr>
          <a:xfrm>
            <a:off x="457200" y="39625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800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insects walk acros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ttraction between two different substan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er will mak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drogen bonds with other surfa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uch as glass, soil, plant tissues, and cott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pillar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ater molecules will “tow” each other along when in a thin glass t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 Also Causes Water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drymaxsocks.com/images/adhes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3809880" cy="234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content.answers.com/main/content/wp/en/thumb/2/2c/250px-Water_drops_on_spider_web.jpg"/>
          <p:cNvPicPr/>
          <p:nvPr/>
        </p:nvPicPr>
        <p:blipFill>
          <a:blip r:embed="rId2"/>
          <a:stretch/>
        </p:blipFill>
        <p:spPr>
          <a:xfrm>
            <a:off x="4952880" y="1981080"/>
            <a:ext cx="3668760" cy="246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ccs.k12.in.us/chsBS/kons/kons/images/water-droplet.jpg"/>
          <p:cNvPicPr/>
          <p:nvPr/>
        </p:nvPicPr>
        <p:blipFill>
          <a:blip r:embed="rId3"/>
          <a:stretch/>
        </p:blipFill>
        <p:spPr>
          <a:xfrm>
            <a:off x="3048120" y="4648320"/>
            <a:ext cx="2819160" cy="1990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533520" y="5181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 spheres &amp; hold onto plan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172200" y="4648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ach to a silken spide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 &amp; Adhesion Causes Capillary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90720" y="2286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gives water the ability to “climb”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http://www.ccs.k12.in.us/chsBS/kons/kons/images/capilary.gif"/>
          <p:cNvPicPr/>
          <p:nvPr/>
        </p:nvPicPr>
        <p:blipFill>
          <a:blip r:embed="rId1"/>
          <a:stretch/>
        </p:blipFill>
        <p:spPr>
          <a:xfrm>
            <a:off x="6172200" y="2057400"/>
            <a:ext cx="2482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mount of hea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needed to raise or low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 substanc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° 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sis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mperature 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both for heating and coo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can absorb or release large amounts of heat energy with little change in actual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Verstaile Solven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x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re substances dissolve in water than any other liq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’s Role on Earth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30720" y="1981080"/>
            <a:ext cx="4236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Influences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hapes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upports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upports Huma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onic compounds disperse a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into which the solute diss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nacl_dissolving"/>
          <p:cNvPicPr/>
          <p:nvPr/>
        </p:nvPicPr>
        <p:blipFill>
          <a:blip r:embed="rId1"/>
          <a:stretch/>
        </p:blipFill>
        <p:spPr>
          <a:xfrm>
            <a:off x="685800" y="1828800"/>
            <a:ext cx="8001000" cy="387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n’t dissolve but separa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o tiny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er keeps the pieces suspende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 they don’t settle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ce is less dens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 a solid than as a liquid (ice flo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quid water h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at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stantly being broken and re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ozen wat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ystal-like latti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hereby molecules are set at fixed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457200" y="0"/>
            <a:ext cx="86868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ich is ice and which is wa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0" y="228600"/>
            <a:ext cx="9067680" cy="48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31"/>
          <p:cNvSpPr/>
          <p:nvPr/>
        </p:nvSpPr>
        <p:spPr>
          <a:xfrm>
            <a:off x="1987920" y="165276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6354720" y="1652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29200" y="57913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water molecule (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), is made 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s --- on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nd tw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5766840" y="3581280"/>
            <a:ext cx="1852920" cy="1831320"/>
            <a:chOff x="5766840" y="3581280"/>
            <a:chExt cx="1852920" cy="1831320"/>
          </a:xfrm>
        </p:grpSpPr>
        <p:pic>
          <p:nvPicPr>
            <p:cNvPr id="50" name="Picture 9" descr=""/>
            <p:cNvPicPr/>
            <p:nvPr/>
          </p:nvPicPr>
          <p:blipFill>
            <a:blip r:embed="rId1"/>
            <a:stretch/>
          </p:blipFill>
          <p:spPr>
            <a:xfrm>
              <a:off x="5841720" y="3924360"/>
              <a:ext cx="17780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0"/>
            <p:cNvSpPr/>
            <p:nvPr/>
          </p:nvSpPr>
          <p:spPr>
            <a:xfrm>
              <a:off x="5766840" y="3581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7174800" y="495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3"/>
          <p:cNvSpPr/>
          <p:nvPr/>
        </p:nvSpPr>
        <p:spPr>
          <a:xfrm>
            <a:off x="636228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http://www.umass.edu/microbio/chime/pe_beta/pe/atlas/morphs/water10/water10_animation.gif"/>
          <p:cNvPicPr/>
          <p:nvPr/>
        </p:nvPicPr>
        <p:blipFill>
          <a:blip r:embed="rId2"/>
          <a:stretch/>
        </p:blipFill>
        <p:spPr>
          <a:xfrm>
            <a:off x="735120" y="3733920"/>
            <a:ext cx="4502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P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In each water molecule, the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oxygen atom attracts mor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than its "fair share" of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oxy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auses the water to b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ever, Water is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neutral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equal number of e- and p+) ---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Zero Net Ch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gen Bonds Exist Between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ed between a high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ectronegative atom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 a polar molecule and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ak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, b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s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academic.brooklyn.cuny.edu/biology/bio4fv/page/image12.gif"/>
          <p:cNvPicPr/>
          <p:nvPr/>
        </p:nvPicPr>
        <p:blipFill>
          <a:blip r:embed="rId1"/>
          <a:stretch/>
        </p:blipFill>
        <p:spPr>
          <a:xfrm>
            <a:off x="5486400" y="2209680"/>
            <a:ext cx="3429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 Properties of Wa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http://www.grow.arizona.edu/images/water/iceberg.jpg"/>
          <p:cNvPicPr/>
          <p:nvPr/>
        </p:nvPicPr>
        <p:blipFill>
          <a:blip r:embed="rId1"/>
          <a:stretch/>
        </p:blipFill>
        <p:spPr>
          <a:xfrm>
            <a:off x="4419720" y="380880"/>
            <a:ext cx="4419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sea level, pure 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s at 10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eezes at 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ing temperature of water decreases at higher elevatio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lower atmospheric pressur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 this reason,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g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ll tak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nger to boil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higher al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Egg_cracks[1].gif"/>
          <p:cNvPicPr/>
          <p:nvPr/>
        </p:nvPicPr>
        <p:blipFill>
          <a:blip r:embed="rId1"/>
          <a:stretch/>
        </p:blipFill>
        <p:spPr>
          <a:xfrm>
            <a:off x="7848720" y="5105520"/>
            <a:ext cx="97128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ryl Massengale</dc:creator>
  <dc:description/>
  <dc:language>en-US</dc:language>
  <cp:lastModifiedBy>Karen Edmonds</cp:lastModifiedBy>
  <cp:lastPrinted>2000-08-17T13:23:07Z</cp:lastPrinted>
  <dcterms:modified xsi:type="dcterms:W3CDTF">2017-04-13T13:23:22Z</dcterms:modified>
  <cp:revision>45</cp:revision>
  <dc:subject/>
  <dc:title>The Extraordinary Properties of Water</dc:title>
</cp:coreProperties>
</file>